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315200" cy="91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8DD-4B1F-434B-BAEC-94DDA5C65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FDE-EF7A-4246-B377-F716056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A18-E049-4B49-8A47-B875C959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5140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53440" y="26352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5140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53440" y="550440"/>
            <a:ext cx="200160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27E-F89F-49D3-880C-0B0F70FF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B41-957A-4F7D-8852-0F3884DB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6DF8-FA0A-4B5A-9241-639C31F3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F99-BBDA-443D-9E3B-544F7BA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F5A-FB64-4B49-ACBB-0A1EE69F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80640"/>
            <a:ext cx="6216480" cy="7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28E1-17A4-4AFE-8046-44014BF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94C-3CE5-4DB6-B042-52CC540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4640" y="55044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D6D-0A4D-4D57-8BA2-994A6B4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-41760"/>
            <a:ext cx="6216480" cy="39744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4640" y="263520"/>
            <a:ext cx="303336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550440"/>
            <a:ext cx="6216480" cy="26172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88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08B-ACF4-4FDE-B6C9-A1EAB773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80640"/>
            <a:ext cx="6216480" cy="1522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ctr">
            <a:noAutofit/>
          </a:bodyPr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63520"/>
            <a:ext cx="6216480" cy="54936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0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33400"/>
            <a:ext cx="2317680" cy="60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33400"/>
            <a:ext cx="1523880" cy="60480"/>
          </a:xfrm>
          <a:prstGeom prst="rect">
            <a:avLst/>
          </a:prstGeom>
          <a:noFill/>
          <a:ln w="0">
            <a:noFill/>
          </a:ln>
        </p:spPr>
        <p:txBody>
          <a:bodyPr lIns="47160" rIns="47160" tIns="23400" bIns="23400" anchor="t">
            <a:noAutofit/>
          </a:bodyPr>
          <a:lstStyle>
            <a:lvl1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fld id="{9CDFC7B5-487D-4729-B2C4-146D84555D00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440" y="0"/>
            <a:ext cx="7259760" cy="900000"/>
          </a:xfrm>
          <a:custGeom>
            <a:avLst/>
            <a:gdLst/>
            <a:ahLst/>
            <a:rect l="l" t="t" r="r" b="b"/>
            <a:pathLst>
              <a:path w="4573" h="567">
                <a:moveTo>
                  <a:pt x="23" y="38"/>
                </a:moveTo>
                <a:cubicBezTo>
                  <a:pt x="10" y="76"/>
                  <a:pt x="41" y="239"/>
                  <a:pt x="41" y="311"/>
                </a:cubicBezTo>
                <a:cubicBezTo>
                  <a:pt x="41" y="383"/>
                  <a:pt x="0" y="442"/>
                  <a:pt x="23" y="469"/>
                </a:cubicBezTo>
                <a:cubicBezTo>
                  <a:pt x="46" y="496"/>
                  <a:pt x="128" y="459"/>
                  <a:pt x="180" y="475"/>
                </a:cubicBezTo>
                <a:cubicBezTo>
                  <a:pt x="232" y="491"/>
                  <a:pt x="291" y="565"/>
                  <a:pt x="338" y="566"/>
                </a:cubicBezTo>
                <a:cubicBezTo>
                  <a:pt x="385" y="567"/>
                  <a:pt x="419" y="483"/>
                  <a:pt x="465" y="481"/>
                </a:cubicBezTo>
                <a:cubicBezTo>
                  <a:pt x="511" y="479"/>
                  <a:pt x="558" y="551"/>
                  <a:pt x="617" y="554"/>
                </a:cubicBezTo>
                <a:cubicBezTo>
                  <a:pt x="676" y="557"/>
                  <a:pt x="754" y="500"/>
                  <a:pt x="817" y="499"/>
                </a:cubicBezTo>
                <a:cubicBezTo>
                  <a:pt x="880" y="498"/>
                  <a:pt x="941" y="549"/>
                  <a:pt x="998" y="548"/>
                </a:cubicBezTo>
                <a:cubicBezTo>
                  <a:pt x="1055" y="547"/>
                  <a:pt x="1104" y="494"/>
                  <a:pt x="1162" y="493"/>
                </a:cubicBezTo>
                <a:cubicBezTo>
                  <a:pt x="1220" y="492"/>
                  <a:pt x="1293" y="542"/>
                  <a:pt x="1344" y="542"/>
                </a:cubicBezTo>
                <a:cubicBezTo>
                  <a:pt x="1395" y="542"/>
                  <a:pt x="1419" y="493"/>
                  <a:pt x="1471" y="493"/>
                </a:cubicBezTo>
                <a:cubicBezTo>
                  <a:pt x="1523" y="493"/>
                  <a:pt x="1599" y="541"/>
                  <a:pt x="1659" y="542"/>
                </a:cubicBezTo>
                <a:cubicBezTo>
                  <a:pt x="1719" y="543"/>
                  <a:pt x="1766" y="503"/>
                  <a:pt x="1829" y="499"/>
                </a:cubicBezTo>
                <a:cubicBezTo>
                  <a:pt x="1892" y="495"/>
                  <a:pt x="1978" y="519"/>
                  <a:pt x="2035" y="517"/>
                </a:cubicBezTo>
                <a:cubicBezTo>
                  <a:pt x="2092" y="515"/>
                  <a:pt x="2131" y="485"/>
                  <a:pt x="2174" y="487"/>
                </a:cubicBezTo>
                <a:cubicBezTo>
                  <a:pt x="2217" y="489"/>
                  <a:pt x="2234" y="527"/>
                  <a:pt x="2295" y="529"/>
                </a:cubicBezTo>
                <a:cubicBezTo>
                  <a:pt x="2356" y="531"/>
                  <a:pt x="2474" y="497"/>
                  <a:pt x="2538" y="499"/>
                </a:cubicBezTo>
                <a:cubicBezTo>
                  <a:pt x="2602" y="501"/>
                  <a:pt x="2634" y="548"/>
                  <a:pt x="2677" y="542"/>
                </a:cubicBezTo>
                <a:cubicBezTo>
                  <a:pt x="2720" y="536"/>
                  <a:pt x="2725" y="464"/>
                  <a:pt x="2798" y="463"/>
                </a:cubicBezTo>
                <a:cubicBezTo>
                  <a:pt x="2871" y="462"/>
                  <a:pt x="2994" y="525"/>
                  <a:pt x="3113" y="535"/>
                </a:cubicBezTo>
                <a:cubicBezTo>
                  <a:pt x="3232" y="545"/>
                  <a:pt x="3407" y="533"/>
                  <a:pt x="3513" y="523"/>
                </a:cubicBezTo>
                <a:cubicBezTo>
                  <a:pt x="3619" y="513"/>
                  <a:pt x="3692" y="473"/>
                  <a:pt x="3750" y="475"/>
                </a:cubicBezTo>
                <a:cubicBezTo>
                  <a:pt x="3808" y="477"/>
                  <a:pt x="3803" y="535"/>
                  <a:pt x="3859" y="535"/>
                </a:cubicBezTo>
                <a:cubicBezTo>
                  <a:pt x="3915" y="535"/>
                  <a:pt x="4035" y="474"/>
                  <a:pt x="4089" y="475"/>
                </a:cubicBezTo>
                <a:cubicBezTo>
                  <a:pt x="4143" y="476"/>
                  <a:pt x="4141" y="538"/>
                  <a:pt x="4186" y="542"/>
                </a:cubicBezTo>
                <a:cubicBezTo>
                  <a:pt x="4231" y="546"/>
                  <a:pt x="4307" y="497"/>
                  <a:pt x="4362" y="499"/>
                </a:cubicBezTo>
                <a:cubicBezTo>
                  <a:pt x="4417" y="501"/>
                  <a:pt x="4493" y="562"/>
                  <a:pt x="4519" y="554"/>
                </a:cubicBezTo>
                <a:cubicBezTo>
                  <a:pt x="4545" y="546"/>
                  <a:pt x="4516" y="488"/>
                  <a:pt x="4519" y="451"/>
                </a:cubicBezTo>
                <a:cubicBezTo>
                  <a:pt x="4522" y="414"/>
                  <a:pt x="4541" y="366"/>
                  <a:pt x="4538" y="335"/>
                </a:cubicBezTo>
                <a:cubicBezTo>
                  <a:pt x="4535" y="304"/>
                  <a:pt x="4499" y="292"/>
                  <a:pt x="4501" y="263"/>
                </a:cubicBezTo>
                <a:cubicBezTo>
                  <a:pt x="4503" y="234"/>
                  <a:pt x="4543" y="186"/>
                  <a:pt x="4550" y="160"/>
                </a:cubicBezTo>
                <a:cubicBezTo>
                  <a:pt x="4557" y="134"/>
                  <a:pt x="4573" y="109"/>
                  <a:pt x="4544" y="105"/>
                </a:cubicBezTo>
                <a:cubicBezTo>
                  <a:pt x="4515" y="101"/>
                  <a:pt x="4405" y="140"/>
                  <a:pt x="4374" y="135"/>
                </a:cubicBezTo>
                <a:cubicBezTo>
                  <a:pt x="4343" y="130"/>
                  <a:pt x="4400" y="78"/>
                  <a:pt x="4356" y="75"/>
                </a:cubicBezTo>
                <a:cubicBezTo>
                  <a:pt x="4312" y="72"/>
                  <a:pt x="4157" y="122"/>
                  <a:pt x="4107" y="117"/>
                </a:cubicBezTo>
                <a:cubicBezTo>
                  <a:pt x="4057" y="112"/>
                  <a:pt x="4097" y="47"/>
                  <a:pt x="4053" y="44"/>
                </a:cubicBezTo>
                <a:cubicBezTo>
                  <a:pt x="4009" y="41"/>
                  <a:pt x="3916" y="99"/>
                  <a:pt x="3841" y="99"/>
                </a:cubicBezTo>
                <a:cubicBezTo>
                  <a:pt x="3766" y="99"/>
                  <a:pt x="3660" y="42"/>
                  <a:pt x="3604" y="44"/>
                </a:cubicBezTo>
                <a:cubicBezTo>
                  <a:pt x="3548" y="46"/>
                  <a:pt x="3555" y="109"/>
                  <a:pt x="3507" y="111"/>
                </a:cubicBezTo>
                <a:cubicBezTo>
                  <a:pt x="3459" y="113"/>
                  <a:pt x="3350" y="59"/>
                  <a:pt x="3313" y="57"/>
                </a:cubicBezTo>
                <a:cubicBezTo>
                  <a:pt x="3276" y="55"/>
                  <a:pt x="3309" y="100"/>
                  <a:pt x="3283" y="99"/>
                </a:cubicBezTo>
                <a:cubicBezTo>
                  <a:pt x="3257" y="98"/>
                  <a:pt x="3204" y="52"/>
                  <a:pt x="3156" y="50"/>
                </a:cubicBezTo>
                <a:cubicBezTo>
                  <a:pt x="3108" y="48"/>
                  <a:pt x="3034" y="89"/>
                  <a:pt x="2992" y="87"/>
                </a:cubicBezTo>
                <a:cubicBezTo>
                  <a:pt x="2950" y="85"/>
                  <a:pt x="2935" y="33"/>
                  <a:pt x="2901" y="38"/>
                </a:cubicBezTo>
                <a:cubicBezTo>
                  <a:pt x="2867" y="43"/>
                  <a:pt x="2834" y="117"/>
                  <a:pt x="2786" y="117"/>
                </a:cubicBezTo>
                <a:cubicBezTo>
                  <a:pt x="2738" y="117"/>
                  <a:pt x="2651" y="44"/>
                  <a:pt x="2610" y="38"/>
                </a:cubicBezTo>
                <a:cubicBezTo>
                  <a:pt x="2569" y="32"/>
                  <a:pt x="2587" y="81"/>
                  <a:pt x="2538" y="81"/>
                </a:cubicBezTo>
                <a:cubicBezTo>
                  <a:pt x="2489" y="81"/>
                  <a:pt x="2366" y="36"/>
                  <a:pt x="2313" y="38"/>
                </a:cubicBezTo>
                <a:cubicBezTo>
                  <a:pt x="2260" y="40"/>
                  <a:pt x="2250" y="90"/>
                  <a:pt x="2217" y="93"/>
                </a:cubicBezTo>
                <a:cubicBezTo>
                  <a:pt x="2184" y="96"/>
                  <a:pt x="2162" y="57"/>
                  <a:pt x="2113" y="57"/>
                </a:cubicBezTo>
                <a:cubicBezTo>
                  <a:pt x="2064" y="57"/>
                  <a:pt x="1982" y="93"/>
                  <a:pt x="1920" y="93"/>
                </a:cubicBezTo>
                <a:cubicBezTo>
                  <a:pt x="1858" y="93"/>
                  <a:pt x="1794" y="57"/>
                  <a:pt x="1738" y="57"/>
                </a:cubicBezTo>
                <a:cubicBezTo>
                  <a:pt x="1682" y="57"/>
                  <a:pt x="1638" y="96"/>
                  <a:pt x="1586" y="93"/>
                </a:cubicBezTo>
                <a:cubicBezTo>
                  <a:pt x="1534" y="90"/>
                  <a:pt x="1484" y="36"/>
                  <a:pt x="1423" y="38"/>
                </a:cubicBezTo>
                <a:cubicBezTo>
                  <a:pt x="1362" y="40"/>
                  <a:pt x="1281" y="100"/>
                  <a:pt x="1217" y="105"/>
                </a:cubicBezTo>
                <a:cubicBezTo>
                  <a:pt x="1153" y="110"/>
                  <a:pt x="1101" y="72"/>
                  <a:pt x="1041" y="69"/>
                </a:cubicBezTo>
                <a:cubicBezTo>
                  <a:pt x="981" y="66"/>
                  <a:pt x="922" y="93"/>
                  <a:pt x="859" y="87"/>
                </a:cubicBezTo>
                <a:cubicBezTo>
                  <a:pt x="796" y="81"/>
                  <a:pt x="712" y="26"/>
                  <a:pt x="665" y="32"/>
                </a:cubicBezTo>
                <a:cubicBezTo>
                  <a:pt x="618" y="38"/>
                  <a:pt x="606" y="119"/>
                  <a:pt x="574" y="123"/>
                </a:cubicBezTo>
                <a:cubicBezTo>
                  <a:pt x="542" y="127"/>
                  <a:pt x="516" y="59"/>
                  <a:pt x="471" y="57"/>
                </a:cubicBezTo>
                <a:cubicBezTo>
                  <a:pt x="426" y="55"/>
                  <a:pt x="342" y="114"/>
                  <a:pt x="301" y="111"/>
                </a:cubicBezTo>
                <a:cubicBezTo>
                  <a:pt x="260" y="108"/>
                  <a:pt x="253" y="43"/>
                  <a:pt x="223" y="38"/>
                </a:cubicBezTo>
                <a:cubicBezTo>
                  <a:pt x="193" y="33"/>
                  <a:pt x="149" y="83"/>
                  <a:pt x="120" y="81"/>
                </a:cubicBezTo>
                <a:cubicBezTo>
                  <a:pt x="91" y="79"/>
                  <a:pt x="36" y="0"/>
                  <a:pt x="23" y="3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87160" y="-2160"/>
            <a:ext cx="882360" cy="926640"/>
            <a:chOff x="587160" y="-2160"/>
            <a:chExt cx="882360" cy="926640"/>
          </a:xfrm>
        </p:grpSpPr>
        <p:sp>
          <p:nvSpPr>
            <p:cNvPr id="43" name=""/>
            <p:cNvSpPr/>
            <p:nvPr/>
          </p:nvSpPr>
          <p:spPr>
            <a:xfrm flipH="1" rot="1058400">
              <a:off x="684720" y="83880"/>
              <a:ext cx="685800" cy="754200"/>
            </a:xfrm>
            <a:custGeom>
              <a:avLst/>
              <a:gdLst/>
              <a:ahLst/>
              <a:rect l="l" t="t" r="r" b="b"/>
              <a:pathLst>
                <a:path w="577" h="782">
                  <a:moveTo>
                    <a:pt x="7" y="0"/>
                  </a:moveTo>
                  <a:cubicBezTo>
                    <a:pt x="0" y="15"/>
                    <a:pt x="33" y="20"/>
                    <a:pt x="67" y="126"/>
                  </a:cubicBezTo>
                  <a:cubicBezTo>
                    <a:pt x="101" y="232"/>
                    <a:pt x="97" y="582"/>
                    <a:pt x="169" y="630"/>
                  </a:cubicBezTo>
                  <a:cubicBezTo>
                    <a:pt x="241" y="678"/>
                    <a:pt x="416" y="705"/>
                    <a:pt x="445" y="618"/>
                  </a:cubicBezTo>
                  <a:cubicBezTo>
                    <a:pt x="504" y="641"/>
                    <a:pt x="513" y="754"/>
                    <a:pt x="535" y="780"/>
                  </a:cubicBezTo>
                  <a:cubicBezTo>
                    <a:pt x="549" y="778"/>
                    <a:pt x="565" y="782"/>
                    <a:pt x="577" y="774"/>
                  </a:cubicBezTo>
                  <a:cubicBezTo>
                    <a:pt x="572" y="746"/>
                    <a:pt x="515" y="697"/>
                    <a:pt x="505" y="612"/>
                  </a:cubicBezTo>
                  <a:cubicBezTo>
                    <a:pt x="506" y="551"/>
                    <a:pt x="565" y="348"/>
                    <a:pt x="517" y="264"/>
                  </a:cubicBezTo>
                  <a:cubicBezTo>
                    <a:pt x="469" y="180"/>
                    <a:pt x="413" y="130"/>
                    <a:pt x="7" y="0"/>
                  </a:cubicBez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 rot="1058400">
              <a:off x="890640" y="274320"/>
              <a:ext cx="312840" cy="353520"/>
            </a:xfrm>
            <a:custGeom>
              <a:avLst/>
              <a:gdLst/>
              <a:ahLst/>
              <a:rect l="l" t="t" r="r" b="b"/>
              <a:pathLst>
                <a:path w="264" h="368">
                  <a:moveTo>
                    <a:pt x="0" y="8"/>
                  </a:moveTo>
                  <a:cubicBezTo>
                    <a:pt x="29" y="11"/>
                    <a:pt x="68" y="0"/>
                    <a:pt x="84" y="32"/>
                  </a:cubicBezTo>
                  <a:cubicBezTo>
                    <a:pt x="96" y="56"/>
                    <a:pt x="99" y="84"/>
                    <a:pt x="108" y="110"/>
                  </a:cubicBezTo>
                  <a:cubicBezTo>
                    <a:pt x="110" y="116"/>
                    <a:pt x="114" y="128"/>
                    <a:pt x="114" y="128"/>
                  </a:cubicBezTo>
                  <a:cubicBezTo>
                    <a:pt x="119" y="213"/>
                    <a:pt x="113" y="302"/>
                    <a:pt x="198" y="344"/>
                  </a:cubicBezTo>
                  <a:cubicBezTo>
                    <a:pt x="217" y="354"/>
                    <a:pt x="235" y="368"/>
                    <a:pt x="258" y="368"/>
                  </a:cubicBezTo>
                  <a:cubicBezTo>
                    <a:pt x="264" y="368"/>
                    <a:pt x="246" y="365"/>
                    <a:pt x="240" y="362"/>
                  </a:cubicBezTo>
                  <a:cubicBezTo>
                    <a:pt x="227" y="355"/>
                    <a:pt x="204" y="338"/>
                    <a:pt x="204" y="338"/>
                  </a:cubicBezTo>
                  <a:cubicBezTo>
                    <a:pt x="180" y="301"/>
                    <a:pt x="171" y="300"/>
                    <a:pt x="162" y="254"/>
                  </a:cubicBezTo>
                  <a:cubicBezTo>
                    <a:pt x="158" y="156"/>
                    <a:pt x="180" y="2"/>
                    <a:pt x="36" y="2"/>
                  </a:cubicBezTo>
                  <a:cubicBezTo>
                    <a:pt x="24" y="2"/>
                    <a:pt x="12" y="6"/>
                    <a:pt x="0" y="8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52280" y="92160"/>
            <a:ext cx="657360" cy="822240"/>
            <a:chOff x="152280" y="92160"/>
            <a:chExt cx="657360" cy="822240"/>
          </a:xfrm>
        </p:grpSpPr>
        <p:sp>
          <p:nvSpPr>
            <p:cNvPr id="46" name=""/>
            <p:cNvSpPr/>
            <p:nvPr/>
          </p:nvSpPr>
          <p:spPr>
            <a:xfrm flipH="1">
              <a:off x="152280" y="92160"/>
              <a:ext cx="657360" cy="82224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86640" y="312840"/>
              <a:ext cx="173160" cy="16992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49320" y="104760"/>
            <a:ext cx="935640" cy="807840"/>
            <a:chOff x="949320" y="104760"/>
            <a:chExt cx="935640" cy="807840"/>
          </a:xfrm>
        </p:grpSpPr>
        <p:sp>
          <p:nvSpPr>
            <p:cNvPr id="49" name=""/>
            <p:cNvSpPr/>
            <p:nvPr/>
          </p:nvSpPr>
          <p:spPr>
            <a:xfrm flipH="1" rot="4719000">
              <a:off x="1087200" y="97200"/>
              <a:ext cx="658800" cy="822240"/>
            </a:xfrm>
            <a:custGeom>
              <a:avLst/>
              <a:gdLst/>
              <a:ahLst/>
              <a:rect l="l" t="t" r="r" b="b"/>
              <a:pathLst>
                <a:path w="606" h="758">
                  <a:moveTo>
                    <a:pt x="7" y="702"/>
                  </a:moveTo>
                  <a:cubicBezTo>
                    <a:pt x="71" y="687"/>
                    <a:pt x="140" y="656"/>
                    <a:pt x="166" y="408"/>
                  </a:cubicBezTo>
                  <a:cubicBezTo>
                    <a:pt x="200" y="308"/>
                    <a:pt x="100" y="289"/>
                    <a:pt x="69" y="126"/>
                  </a:cubicBezTo>
                  <a:cubicBezTo>
                    <a:pt x="202" y="117"/>
                    <a:pt x="196" y="291"/>
                    <a:pt x="229" y="260"/>
                  </a:cubicBezTo>
                  <a:cubicBezTo>
                    <a:pt x="247" y="258"/>
                    <a:pt x="203" y="189"/>
                    <a:pt x="196" y="148"/>
                  </a:cubicBezTo>
                  <a:cubicBezTo>
                    <a:pt x="190" y="107"/>
                    <a:pt x="162" y="3"/>
                    <a:pt x="183" y="14"/>
                  </a:cubicBezTo>
                  <a:cubicBezTo>
                    <a:pt x="290" y="110"/>
                    <a:pt x="258" y="167"/>
                    <a:pt x="319" y="207"/>
                  </a:cubicBezTo>
                  <a:cubicBezTo>
                    <a:pt x="380" y="141"/>
                    <a:pt x="518" y="14"/>
                    <a:pt x="606" y="0"/>
                  </a:cubicBezTo>
                  <a:cubicBezTo>
                    <a:pt x="570" y="116"/>
                    <a:pt x="540" y="161"/>
                    <a:pt x="417" y="233"/>
                  </a:cubicBezTo>
                  <a:cubicBezTo>
                    <a:pt x="404" y="287"/>
                    <a:pt x="509" y="274"/>
                    <a:pt x="581" y="371"/>
                  </a:cubicBezTo>
                  <a:cubicBezTo>
                    <a:pt x="487" y="418"/>
                    <a:pt x="402" y="337"/>
                    <a:pt x="344" y="337"/>
                  </a:cubicBezTo>
                  <a:cubicBezTo>
                    <a:pt x="310" y="357"/>
                    <a:pt x="405" y="391"/>
                    <a:pt x="443" y="464"/>
                  </a:cubicBezTo>
                  <a:cubicBezTo>
                    <a:pt x="349" y="474"/>
                    <a:pt x="246" y="430"/>
                    <a:pt x="227" y="406"/>
                  </a:cubicBezTo>
                  <a:cubicBezTo>
                    <a:pt x="164" y="453"/>
                    <a:pt x="169" y="666"/>
                    <a:pt x="66" y="744"/>
                  </a:cubicBezTo>
                  <a:cubicBezTo>
                    <a:pt x="30" y="758"/>
                    <a:pt x="0" y="726"/>
                    <a:pt x="7" y="702"/>
                  </a:cubicBez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4719000">
              <a:off x="1432440" y="396000"/>
              <a:ext cx="171360" cy="16956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4" y="150"/>
                  </a:moveTo>
                  <a:cubicBezTo>
                    <a:pt x="13" y="96"/>
                    <a:pt x="33" y="88"/>
                    <a:pt x="82" y="72"/>
                  </a:cubicBezTo>
                  <a:cubicBezTo>
                    <a:pt x="93" y="61"/>
                    <a:pt x="112" y="69"/>
                    <a:pt x="118" y="42"/>
                  </a:cubicBezTo>
                  <a:cubicBezTo>
                    <a:pt x="124" y="15"/>
                    <a:pt x="133" y="0"/>
                    <a:pt x="130" y="6"/>
                  </a:cubicBezTo>
                  <a:cubicBezTo>
                    <a:pt x="159" y="39"/>
                    <a:pt x="97" y="104"/>
                    <a:pt x="58" y="108"/>
                  </a:cubicBezTo>
                  <a:cubicBezTo>
                    <a:pt x="19" y="112"/>
                    <a:pt x="0" y="156"/>
                    <a:pt x="4" y="150"/>
                  </a:cubicBez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770120" y="144360"/>
            <a:ext cx="5329080" cy="617760"/>
            <a:chOff x="1770120" y="144360"/>
            <a:chExt cx="5329080" cy="617760"/>
          </a:xfrm>
        </p:grpSpPr>
        <p:grpSp>
          <p:nvGrpSpPr>
            <p:cNvPr id="52" name=""/>
            <p:cNvGrpSpPr/>
            <p:nvPr/>
          </p:nvGrpSpPr>
          <p:grpSpPr>
            <a:xfrm>
              <a:off x="6705720" y="228600"/>
              <a:ext cx="393480" cy="533520"/>
              <a:chOff x="6705720" y="228600"/>
              <a:chExt cx="393480" cy="533520"/>
            </a:xfrm>
          </p:grpSpPr>
          <p:sp>
            <p:nvSpPr>
              <p:cNvPr id="53" name=""/>
              <p:cNvSpPr/>
              <p:nvPr/>
            </p:nvSpPr>
            <p:spPr>
              <a:xfrm>
                <a:off x="6705720" y="228600"/>
                <a:ext cx="393480" cy="533520"/>
              </a:xfrm>
              <a:custGeom>
                <a:avLst/>
                <a:gdLst/>
                <a:ahLst/>
                <a:rect l="l" t="t" r="r" b="b"/>
                <a:pathLst>
                  <a:path w="577" h="782">
                    <a:moveTo>
                      <a:pt x="7" y="0"/>
                    </a:moveTo>
                    <a:cubicBezTo>
                      <a:pt x="0" y="15"/>
                      <a:pt x="33" y="20"/>
                      <a:pt x="67" y="126"/>
                    </a:cubicBezTo>
                    <a:cubicBezTo>
                      <a:pt x="101" y="232"/>
                      <a:pt x="97" y="582"/>
                      <a:pt x="169" y="630"/>
                    </a:cubicBezTo>
                    <a:cubicBezTo>
                      <a:pt x="241" y="678"/>
                      <a:pt x="416" y="705"/>
                      <a:pt x="445" y="618"/>
                    </a:cubicBezTo>
                    <a:cubicBezTo>
                      <a:pt x="504" y="641"/>
                      <a:pt x="513" y="754"/>
                      <a:pt x="535" y="780"/>
                    </a:cubicBezTo>
                    <a:cubicBezTo>
                      <a:pt x="549" y="778"/>
                      <a:pt x="565" y="782"/>
                      <a:pt x="577" y="774"/>
                    </a:cubicBezTo>
                    <a:cubicBezTo>
                      <a:pt x="572" y="746"/>
                      <a:pt x="515" y="697"/>
                      <a:pt x="505" y="612"/>
                    </a:cubicBezTo>
                    <a:cubicBezTo>
                      <a:pt x="506" y="551"/>
                      <a:pt x="565" y="348"/>
                      <a:pt x="517" y="264"/>
                    </a:cubicBezTo>
                    <a:cubicBezTo>
                      <a:pt x="469" y="180"/>
                      <a:pt x="413" y="130"/>
                      <a:pt x="7" y="0"/>
                    </a:cubicBez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804000" y="358920"/>
                <a:ext cx="179280" cy="252360"/>
              </a:xfrm>
              <a:custGeom>
                <a:avLst/>
                <a:gdLst/>
                <a:ahLst/>
                <a:rect l="l" t="t" r="r" b="b"/>
                <a:pathLst>
                  <a:path w="264" h="368">
                    <a:moveTo>
                      <a:pt x="0" y="8"/>
                    </a:moveTo>
                    <a:cubicBezTo>
                      <a:pt x="29" y="11"/>
                      <a:pt x="68" y="0"/>
                      <a:pt x="84" y="32"/>
                    </a:cubicBezTo>
                    <a:cubicBezTo>
                      <a:pt x="96" y="56"/>
                      <a:pt x="99" y="84"/>
                      <a:pt x="108" y="110"/>
                    </a:cubicBezTo>
                    <a:cubicBezTo>
                      <a:pt x="110" y="116"/>
                      <a:pt x="114" y="128"/>
                      <a:pt x="114" y="128"/>
                    </a:cubicBezTo>
                    <a:cubicBezTo>
                      <a:pt x="119" y="213"/>
                      <a:pt x="113" y="302"/>
                      <a:pt x="198" y="344"/>
                    </a:cubicBezTo>
                    <a:cubicBezTo>
                      <a:pt x="217" y="354"/>
                      <a:pt x="235" y="368"/>
                      <a:pt x="258" y="368"/>
                    </a:cubicBezTo>
                    <a:cubicBezTo>
                      <a:pt x="264" y="368"/>
                      <a:pt x="246" y="365"/>
                      <a:pt x="240" y="362"/>
                    </a:cubicBezTo>
                    <a:cubicBezTo>
                      <a:pt x="227" y="355"/>
                      <a:pt x="204" y="338"/>
                      <a:pt x="204" y="338"/>
                    </a:cubicBezTo>
                    <a:cubicBezTo>
                      <a:pt x="180" y="301"/>
                      <a:pt x="171" y="300"/>
                      <a:pt x="162" y="254"/>
                    </a:cubicBezTo>
                    <a:cubicBezTo>
                      <a:pt x="158" y="156"/>
                      <a:pt x="180" y="2"/>
                      <a:pt x="36" y="2"/>
                    </a:cubicBezTo>
                    <a:cubicBezTo>
                      <a:pt x="24" y="2"/>
                      <a:pt x="12" y="6"/>
                      <a:pt x="0" y="8"/>
                    </a:cubicBezTo>
                    <a:close/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770120" y="144360"/>
              <a:ext cx="5003640" cy="515880"/>
            </a:xfrm>
            <a:custGeom>
              <a:avLst/>
              <a:gdLst/>
              <a:ahLst/>
              <a:rect l="l" t="t" r="r" b="b"/>
              <a:pathLst>
                <a:path w="3152" h="325">
                  <a:moveTo>
                    <a:pt x="0" y="182"/>
                  </a:moveTo>
                  <a:cubicBezTo>
                    <a:pt x="42" y="163"/>
                    <a:pt x="185" y="40"/>
                    <a:pt x="303" y="42"/>
                  </a:cubicBezTo>
                  <a:cubicBezTo>
                    <a:pt x="421" y="44"/>
                    <a:pt x="610" y="236"/>
                    <a:pt x="740" y="236"/>
                  </a:cubicBezTo>
                  <a:cubicBezTo>
                    <a:pt x="870" y="236"/>
                    <a:pt x="1018" y="115"/>
                    <a:pt x="1036" y="67"/>
                  </a:cubicBezTo>
                  <a:cubicBezTo>
                    <a:pt x="1054" y="19"/>
                    <a:pt x="1047" y="0"/>
                    <a:pt x="994" y="6"/>
                  </a:cubicBezTo>
                  <a:cubicBezTo>
                    <a:pt x="941" y="12"/>
                    <a:pt x="912" y="31"/>
                    <a:pt x="909" y="48"/>
                  </a:cubicBezTo>
                  <a:cubicBezTo>
                    <a:pt x="906" y="65"/>
                    <a:pt x="896" y="106"/>
                    <a:pt x="976" y="109"/>
                  </a:cubicBezTo>
                  <a:cubicBezTo>
                    <a:pt x="1056" y="112"/>
                    <a:pt x="1307" y="28"/>
                    <a:pt x="1382" y="42"/>
                  </a:cubicBezTo>
                  <a:cubicBezTo>
                    <a:pt x="1457" y="56"/>
                    <a:pt x="1564" y="269"/>
                    <a:pt x="1715" y="279"/>
                  </a:cubicBezTo>
                  <a:cubicBezTo>
                    <a:pt x="1866" y="289"/>
                    <a:pt x="2125" y="81"/>
                    <a:pt x="2279" y="85"/>
                  </a:cubicBezTo>
                  <a:cubicBezTo>
                    <a:pt x="2433" y="89"/>
                    <a:pt x="2725" y="293"/>
                    <a:pt x="2867" y="309"/>
                  </a:cubicBezTo>
                  <a:cubicBezTo>
                    <a:pt x="3009" y="325"/>
                    <a:pt x="3125" y="235"/>
                    <a:pt x="3152" y="224"/>
                  </a:cubicBezTo>
                </a:path>
              </a:pathLst>
            </a:custGeom>
            <a:noFill/>
            <a:ln w="28440">
              <a:solidFill>
                <a:srgbClr val="ffcc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 txBox="1"/>
          <p:nvPr/>
        </p:nvSpPr>
        <p:spPr>
          <a:xfrm>
            <a:off x="2438280" y="0"/>
            <a:ext cx="24955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ldes d'automne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6-12-07T15:50:04Z</dcterms:modified>
  <cp:revision>0</cp:revision>
  <dc:subject/>
  <dc:title>Aucun titre de diapositive</dc:title>
</cp:coreProperties>
</file>